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3FD-5808-4C55-9F13-5EFFF39767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73F6-BDE0-4432-8BA8-965EDBBC86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3DD4-FB85-41D4-B711-951CA7C18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41CC-AC59-4FBE-8145-C24739D604B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AA3C8-B07D-478C-9773-F38455458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86E6-A8EF-4ECE-A3E5-4ED61174BBB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976A0-2041-4DC2-8F4C-C0A1EB6029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B2A38-869F-47A1-A8D7-E90A99CEFCB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CD8BE-86A4-4303-ADE5-E7184218FA8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29BBF-4D7E-47DA-9CE3-0287E992AF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7DB66-4173-4327-A7FF-9C3980CBAA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F352A-7EE3-49ED-981E-7DDD04BB891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108CD-FBF9-4228-BE0D-6FF76632C56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5612C-68FF-42A5-B2E7-361B4238601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091F6-D98D-4312-862D-CD3A005D560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5EAC7-BDCE-43E9-8E50-AC55F433C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39F0-14B0-4915-8D84-58D3EE68E0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BFA1D-C301-48E5-BF53-67C7CA93903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890DE-E1C7-4129-9394-D357DC713F0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2053-5F58-4E04-8DB8-DF25B4BB77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D86F-B9C0-453B-A090-AEEAF50F3AD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81D2-ED4E-47DF-9EDC-F22909D8298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816E-6697-4051-8231-31665931030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F30D-2C1E-4CDA-A4C6-2F689C4534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4DDA-25BA-4073-A292-AB6D1CAEB6A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9B24-716A-4FF0-8238-1B1FDE5793E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65E9-0ADC-4CB4-9B36-80991E8B6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E1A3-091E-43FE-9689-90887F66B9E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DB852-EB84-4650-AD0E-376E4B3FBC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8C7D-8D84-4B9F-AAB3-19345C32CDA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4242-2B83-4780-9CC8-E090B9B039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8F04A-FF52-4085-A18E-E79B331065F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D33B2-38BC-4980-901F-A0DEA905AA7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424AF-3318-450C-96D5-32F567BBA36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B6EC8-2144-4207-9CEE-D357057A20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8B98B-4F14-41EA-A0D5-13CB4DB8416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E90D8-8FC2-4153-81A2-F24CE8567D4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58A12-1A61-4328-B7C0-B97F6A2B6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3EAE-A3B1-4BEC-BCEA-6BC83069F7C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89275-BA0D-497D-AD58-A938AA53E4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E50E69-5F6C-42AB-A61C-22956461E9A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15D1B-7B4D-4DBD-883A-D6190B2DCAB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95F92-ED52-4131-A916-3AA582DEFD3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AB303-95D3-4655-B055-4FEEB95A8E5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7192C-360A-4274-9185-103F5F7AB83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EAA2A-26BF-4260-991A-FE70B915EDF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70289-F78A-4623-9FFC-1C902F8ACA4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664C3-5B66-4176-8C1D-3A1ABE9AF7D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2E3C8-49F9-496E-899B-013A4A3B7E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41171-0D05-4AA6-A992-70D5EEDDCB6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9642D-FF51-4C7D-A469-26EF526F357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ADAC5-0CDD-4F61-971B-6FA2919ECD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574CD-CE42-460B-950F-30CABDF7883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3BF04-8310-47FF-8CEB-DB0FCC63E8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91895-0EA6-4577-B764-6DAC900947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68B85-2C84-4BB1-BAFD-912D6C9EA9E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76A7B-407C-43AC-A8FE-1F47B008931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068B-6CEC-433C-9D8F-A8B409F0DF2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F40E-021D-4D29-9669-4A993A55452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362F-BE6E-491B-84EE-9565A20892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2669-143D-4D81-A1FC-0747E08100F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DDA4A-05D4-4379-8FE6-5DD83961F61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290A-BBAE-424A-A47A-61EC584E9FD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F68B-315B-44A8-9E27-9B4BDAC3F03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6955D-7EED-4221-93D9-B70B3BB66E9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1747-9E82-43D7-B23B-81891F87EFE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21D9-BAD5-4419-B0C5-509C16C81C8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A710-0E1A-46EC-835A-50F848FDAA7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2FC7-C449-4002-AB2E-445A66CFB17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83584-1BA4-41A6-93FD-DD32C0D640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6A94F-BDB4-4B95-95A6-444C236BF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BFC8-54DF-4A51-AA67-F71BF664D5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8610-5AF6-4DC4-9264-87B1E69AA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928B-062F-4410-B1F1-466DD267A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B673-AEB5-4CDF-AB30-356C00D41D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4956-7062-4567-88B7-6F528B4F73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99AA-C201-4075-9776-B377487DB8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F74D-5875-42BE-8D71-AC9490970B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F3E5-C308-4CBD-88C4-140C6A0599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0DE3-7851-4953-AE23-EE8E9B41A7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109-8544-480E-BFAB-2B93C5FC85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E4F-4794-481D-9799-5A9E1514F0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148-BF23-4202-995B-7AA3B55F1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F212-EAF5-4834-B71F-E39AAF6579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E6F-CAE1-4CB6-BA5D-661221B297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CB8-A0E1-4686-8CE1-85C17D05CC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F46-E4B1-4523-ACCD-CB413079B1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B56-B9B1-4F88-BDFD-1EA7D214CE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E5F-A681-4729-BC87-3DFA7759DF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A87-6480-419E-A98A-BB16D1EAEC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BA6-FEE2-4B40-B2C6-40A52D7273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F25-0C74-4043-9AE0-979938117F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986-B9ED-42BA-A81F-86A9F19259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DE213-5637-4495-8B32-D5EBC0220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F10C-0448-4250-A3C6-5CC80EBC28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F82BE-E9CB-4060-A6BD-4EEADC27FFA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15883-6923-4EEB-81EE-7B698DAE90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1B63C-9928-4562-8B73-8E8922388AC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B69C7-724A-4A47-9D1C-785FDBB78B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D149D-149A-452B-892D-1A665F5510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4D174-169F-43E5-B1AA-1F53A62887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66F77-B72A-4D04-9341-F4411CF017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56F28-3EEF-4E7E-AB57-65229287DE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EADCC-FA44-4274-83ED-A3EC32E0412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954B1-0989-403B-9381-DDCE93892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814B-4869-488D-B372-2FC2DB76CD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7F7E6-E298-469F-A954-9442AE9AAA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82468-4D36-4B7C-B8F7-A89C168288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8EBF9-7BA3-4D0C-B01C-BC2D5405D3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C76E1-7E63-46BD-9970-C229D61039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56433-4F57-4A24-9C96-064E2569175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8A375-20B7-4227-B664-4A382595B25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05F6C-6803-44EF-AF00-C66DD47E6F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492AF-307F-46A2-BF1F-8E95FAB7E1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CC380-09F0-4060-8858-AC453311F91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35AE7-019C-4E5D-BDFA-B1A4E2156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2B19-896C-49C1-9C78-64C2D34A16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0DA25-923D-4570-9FF4-68D42DA119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95716-8C20-4FB2-B7F7-EDE70D356F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AECF0-A742-4441-B750-76B6140323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E8B3-232D-4413-99CE-B2F1E2301F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5A09-3FDC-4642-B672-C6A632BE78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2804-3E3B-4489-A902-24543319CF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C5BA-46FA-4790-8B11-9DCFAEAD45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1079-03F4-439C-925B-88CFB2F8CB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E459-FCAB-4D71-AD87-3812223A49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4B36-9416-4A3C-B686-6ACC919CE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2DA1-8691-450A-90B8-3C2F1B6F41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39CB-B427-4029-87A4-0FED9F38FD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E409-3AD8-43DC-9B6D-2C9757A75A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1232-E5D4-4F9C-83AB-8DF70F8A37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C0FC-26ED-4790-A6B2-5350980795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F1EB-F43D-42CC-92CA-314CFF741A7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65281-2C0F-453A-823B-6CFB522E1DC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1F89EA-380B-49F9-9A34-32564A5E825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830E4-2F27-42AB-BD16-4D09ACB6535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DE6BE-ECEE-4103-A730-1FAA94B557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1DE51-5FF4-41A3-85FD-72C270282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00DC-743B-45D6-B193-C6CEF6A64B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A2317-D55E-40B3-BC15-D4C8C58771E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D9284-1242-4F9A-8EE7-B271EF174C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B508D4-9ED4-49B4-854C-FC226189B04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DD4F2-04B4-41A7-A6B9-BA19DBDE5C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42C3C-9E10-49F1-93B1-57268FEBB3E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4DD4A-23D6-4A8B-8341-FBD930540F5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92D06-603E-4B94-BF5C-EA6B9A7B6F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824D-1C87-4F2A-B9AC-EC9995BC3E40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">
            <a:hlinkClick r:id="rId5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Num" idx="8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7665-1104-4FAC-B429-7C1181843878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9">
            <a:hlinkClick r:id="rId5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Num" idx="9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FD29-2E6C-40B3-8C85-A41222BD2961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Num" idx="10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46E3-9B63-40B5-8BEE-4BACFF9FFF3A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Рисунок 7" descr="Logo_mini.png"/>
          <p:cNvPicPr/>
          <p:nvPr/>
        </p:nvPicPr>
        <p:blipFill>
          <a:blip r:embed="rId3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Num" idx="11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F04-167A-409E-9207-057C4876DDDC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7" descr="Logo_mini.png"/>
          <p:cNvPicPr/>
          <p:nvPr/>
        </p:nvPicPr>
        <p:blipFill>
          <a:blip r:embed="rId3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591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Num" idx="12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5E42-D3BE-45FF-8B8B-556ED1389F4F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EF7C-303E-4947-9A1D-DDC017950D41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>
            <a:hlinkClick r:id="rId2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Num" idx="3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BF6F-235E-488C-B805-63275C531E9A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Num" idx="4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82C6-D333-462A-B84C-80BB8A82EF6F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Num" idx="5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709B-1292-4C73-8300-727412C2412A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Num" idx="6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11D-5110-46C6-A300-3283CE888161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Num" idx="7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EE5-A647-4C59-AE62-58E2590D6E5F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>
            <a:hlinkClick r:id="rId2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7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8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ик 6"/>
          <p:cNvSpPr/>
          <p:nvPr/>
        </p:nvSpPr>
        <p:spPr>
          <a:xfrm>
            <a:off x="0" y="-214200"/>
            <a:ext cx="9144000" cy="707220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"/>
          <p:cNvSpPr/>
          <p:nvPr/>
        </p:nvSpPr>
        <p:spPr>
          <a:xfrm>
            <a:off x="938160" y="2116080"/>
            <a:ext cx="710100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Руководитель филиала ФГБУ «Россельхозцентр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по Красноярскому краю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Малинников Алексей Валентинович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54360" cy="955800"/>
          </a:xfrm>
          <a:prstGeom prst="rect">
            <a:avLst/>
          </a:prstGeom>
          <a:ln w="0">
            <a:noFill/>
          </a:ln>
        </p:spPr>
      </p:pic>
      <p:sp>
        <p:nvSpPr>
          <p:cNvPr id="642" name="TextBox 1"/>
          <p:cNvSpPr/>
          <p:nvPr/>
        </p:nvSpPr>
        <p:spPr>
          <a:xfrm>
            <a:off x="1535040" y="29844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инистерство сельского хозяйств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оссийской Феде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1500120" y="1071720"/>
            <a:ext cx="660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Федеральное государственное бюджетное учрежден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«Российский сельскохозяйственный центр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(ФГБУ «Россельхозцентр»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Рисунок 3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984240" cy="928800"/>
          </a:xfrm>
          <a:prstGeom prst="rect">
            <a:avLst/>
          </a:prstGeom>
          <a:ln w="0">
            <a:noFill/>
          </a:ln>
        </p:spPr>
      </p:pic>
      <p:sp>
        <p:nvSpPr>
          <p:cNvPr id="645" name="Номер слайда 1"/>
          <p:cNvSpPr/>
          <p:nvPr/>
        </p:nvSpPr>
        <p:spPr>
          <a:xfrm>
            <a:off x="0" y="6558120"/>
            <a:ext cx="539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"/>
          <p:cNvSpPr/>
          <p:nvPr/>
        </p:nvSpPr>
        <p:spPr>
          <a:xfrm>
            <a:off x="4031280" y="58514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прель 2022 г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"/>
          <p:cNvSpPr/>
          <p:nvPr/>
        </p:nvSpPr>
        <p:spPr>
          <a:xfrm>
            <a:off x="1619280" y="2349360"/>
            <a:ext cx="70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"/>
              </a:rPr>
              <a:t>Тема: Предварительный прогноз фитосанитарного состояния сельскохозяйственных угодий на территории Красноярского края в 2022 году. Обзор качества семян, предназначенных для посева в 2022 году в хозяйствах Красноярского кр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07640" y="189000"/>
            <a:ext cx="7559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бор урожая зерновых культур от вредителей и болезней в 2021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0" y="1125360"/>
          <a:ext cx="9036000" cy="5465880"/>
        </p:xfrm>
        <a:graphic>
          <a:graphicData uri="http://schemas.openxmlformats.org/drawingml/2006/table">
            <a:tbl>
              <a:tblPr/>
              <a:tblGrid>
                <a:gridCol w="2556000"/>
                <a:gridCol w="1152360"/>
                <a:gridCol w="1150920"/>
                <a:gridCol w="1081080"/>
                <a:gridCol w="1150920"/>
                <a:gridCol w="1044720"/>
                <a:gridCol w="900000"/>
              </a:tblGrid>
              <a:tr h="3715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ВО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обор урожая, %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многолетний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краю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точ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траль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ад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ж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дители</a:t>
                      </a:r>
                      <a:r>
                        <a:rPr b="1" lang="ru-RU" sz="1600" spc="-1" strike="noStrike">
                          <a:solidFill>
                            <a:srgbClr val="dce6f2"/>
                          </a:solidFill>
                          <a:latin typeface="Times New Roman"/>
                          <a:ea typeface="Calibri"/>
                        </a:rPr>
                        <a:t>…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истеблевые вредител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шеничный трип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лаковая тл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зни</a:t>
                      </a:r>
                      <a:r>
                        <a:rPr b="1" lang="ru-RU" sz="1600" spc="-1" strike="noStrike">
                          <a:solidFill>
                            <a:srgbClr val="dce6f2"/>
                          </a:solidFill>
                          <a:latin typeface="Times New Roman"/>
                          <a:ea typeface="Calibri"/>
                        </a:rPr>
                        <a:t>…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невые гнили пшениц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пториоз пшениц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пшениц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невые гнили ячме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льминтоспориоз ячме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ячмен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2" name="Прямоугольник 3"/>
          <p:cNvSpPr/>
          <p:nvPr/>
        </p:nvSpPr>
        <p:spPr>
          <a:xfrm>
            <a:off x="7093080" y="1484280"/>
            <a:ext cx="1008000" cy="511344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86CA-0B19-4594-9390-1C94652AF81B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0" y="189000"/>
            <a:ext cx="7956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обработок посевов сельскохозяйственных культур от вредителей и болезней в Красноярском крае в 2011-2021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Диаграмма 3" descr=""/>
          <p:cNvPicPr/>
          <p:nvPr/>
        </p:nvPicPr>
        <p:blipFill>
          <a:blip r:embed="rId1"/>
          <a:stretch/>
        </p:blipFill>
        <p:spPr>
          <a:xfrm>
            <a:off x="390600" y="1195560"/>
            <a:ext cx="8429400" cy="5260680"/>
          </a:xfrm>
          <a:prstGeom prst="rect">
            <a:avLst/>
          </a:prstGeom>
          <a:ln w="0">
            <a:noFill/>
          </a:ln>
        </p:spPr>
      </p:pic>
      <p:sp>
        <p:nvSpPr>
          <p:cNvPr id="696" name="Номер слайда 5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A240-30CC-4733-955C-D0F9184043CD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0" y="189000"/>
            <a:ext cx="81439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оренность посевов сельскохозяйственных культур наиболее распространенными в крае сорняками в 2021 году по группам район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79280" y="857160"/>
          <a:ext cx="8785440" cy="5983200"/>
        </p:xfrm>
        <a:graphic>
          <a:graphicData uri="http://schemas.openxmlformats.org/drawingml/2006/table">
            <a:tbl>
              <a:tblPr/>
              <a:tblGrid>
                <a:gridCol w="3097440"/>
                <a:gridCol w="1582560"/>
                <a:gridCol w="1081080"/>
                <a:gridCol w="1079640"/>
                <a:gridCol w="1008000"/>
                <a:gridCol w="936720"/>
              </a:tblGrid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орного растен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эфициент засоренности в крае 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 по группам районов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51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олистны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ь бел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аренник  цепки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шка вьюнков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 татарская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т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т розовы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ьюнок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рица запрокинут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опля сорн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стник цикутов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щ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уванчик лекарствен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тушья сумка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51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ковы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сюг обыкновен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 сорно-полев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 курин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тинник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рей ползучи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9" name="Прямоугольник 3"/>
          <p:cNvSpPr/>
          <p:nvPr/>
        </p:nvSpPr>
        <p:spPr>
          <a:xfrm>
            <a:off x="7020000" y="1052640"/>
            <a:ext cx="1008000" cy="580536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16B-B11B-45FE-91F5-EC27BA21D9B3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107640" y="189000"/>
            <a:ext cx="7272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обработок посевов сельскохозяйственных культур от сорняков в Красноярском крае в 2011-2021г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Диаграмма 7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407200"/>
          </a:xfrm>
          <a:prstGeom prst="rect">
            <a:avLst/>
          </a:prstGeom>
          <a:ln w="0">
            <a:noFill/>
          </a:ln>
        </p:spPr>
      </p:pic>
      <p:sp>
        <p:nvSpPr>
          <p:cNvPr id="703" name="Номер слайда 3"/>
          <p:cNvSpPr/>
          <p:nvPr/>
        </p:nvSpPr>
        <p:spPr>
          <a:xfrm>
            <a:off x="0" y="664056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E4CF-559A-46BA-A4D3-6860D537CE49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23640" y="5084280"/>
            <a:ext cx="8569080" cy="3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из них доля препаратов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189000"/>
            <a:ext cx="732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поступления пестицидов в Красноярском крае в 2021 году, тон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Диаграмма 5" descr=""/>
          <p:cNvPicPr/>
          <p:nvPr/>
        </p:nvPicPr>
        <p:blipFill>
          <a:blip r:embed="rId1"/>
          <a:stretch/>
        </p:blipFill>
        <p:spPr>
          <a:xfrm>
            <a:off x="1401840" y="981000"/>
            <a:ext cx="6267240" cy="3743280"/>
          </a:xfrm>
          <a:prstGeom prst="rect">
            <a:avLst/>
          </a:prstGeom>
          <a:ln w="0">
            <a:noFill/>
          </a:ln>
        </p:spPr>
      </p:pic>
      <p:pic>
        <p:nvPicPr>
          <p:cNvPr id="707" name="Диаграмма 7" descr=""/>
          <p:cNvPicPr/>
          <p:nvPr/>
        </p:nvPicPr>
        <p:blipFill>
          <a:blip r:embed="rId2"/>
          <a:stretch/>
        </p:blipFill>
        <p:spPr>
          <a:xfrm>
            <a:off x="1401840" y="5443560"/>
            <a:ext cx="5730840" cy="1231920"/>
          </a:xfrm>
          <a:prstGeom prst="rect">
            <a:avLst/>
          </a:prstGeom>
          <a:ln w="0">
            <a:noFill/>
          </a:ln>
        </p:spPr>
      </p:pic>
      <p:sp>
        <p:nvSpPr>
          <p:cNvPr id="708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66B6-67C0-4179-8882-2FB5301019D6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\\192.168.10.4\файлообменник\Фото\Фото для А.В. Малинникова\IMG_20210812_140202.jpg"/>
          <p:cNvPicPr/>
          <p:nvPr/>
        </p:nvPicPr>
        <p:blipFill>
          <a:blip r:embed="rId1"/>
          <a:srcRect l="6823" t="0" r="9239" b="0"/>
          <a:stretch/>
        </p:blipFill>
        <p:spPr>
          <a:xfrm>
            <a:off x="-7920" y="0"/>
            <a:ext cx="3763800" cy="3357720"/>
          </a:xfrm>
          <a:prstGeom prst="rect">
            <a:avLst/>
          </a:prstGeom>
          <a:ln w="0">
            <a:noFill/>
          </a:ln>
        </p:spPr>
      </p:pic>
      <p:sp>
        <p:nvSpPr>
          <p:cNvPr id="710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71C7-1E2B-42AA-B631-80ED07445A02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4" descr="\\192.168.10.4\файлообменник\Фото\Фото для А.В. Малинникова\c5bdc342-3b4c-4b62-a764-76cb76795efd.jpg"/>
          <p:cNvPicPr/>
          <p:nvPr/>
        </p:nvPicPr>
        <p:blipFill>
          <a:blip r:embed="rId2"/>
          <a:srcRect l="0" t="0" r="0" b="4761"/>
          <a:stretch/>
        </p:blipFill>
        <p:spPr>
          <a:xfrm>
            <a:off x="-36360" y="3357720"/>
            <a:ext cx="3676320" cy="35002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-36360" y="6597360"/>
            <a:ext cx="1800000" cy="26028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тадные саранчов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834920" y="4941720"/>
            <a:ext cx="208908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уговой мотылек, бабоч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801800" y="6629040"/>
            <a:ext cx="1944720" cy="2286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уговой мотылек, гусени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3" descr="\\192.168.10.4\файлообменник\Фото\Фото для А.В. Малинникова\9d7a818d-e718-4850-9f1c-bcde6f7d7cb7.jpg"/>
          <p:cNvPicPr/>
          <p:nvPr/>
        </p:nvPicPr>
        <p:blipFill>
          <a:blip r:embed="rId3"/>
          <a:srcRect l="0" t="0" r="0" b="2093"/>
          <a:stretch/>
        </p:blipFill>
        <p:spPr>
          <a:xfrm>
            <a:off x="3630600" y="1460520"/>
            <a:ext cx="5513400" cy="539748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3850920" y="3933720"/>
            <a:ext cx="2165400" cy="2253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пториоз кол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659280" y="3933720"/>
            <a:ext cx="2165400" cy="2253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учнистая р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508360" y="6630480"/>
            <a:ext cx="215892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узариоз кол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67640" y="6630480"/>
            <a:ext cx="151272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льтернариоз рап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638160" y="6630480"/>
            <a:ext cx="187020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епториоз листа пшениц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39640" y="3141720"/>
            <a:ext cx="216072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псовый цветое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3" descr="\\192.168.10.4\файлообменник\Фото\Фото для А.В. Малинникова\Красноярский край, Каратузский р-он, клоп вредной черепашки, июнь 2020г..jpg"/>
          <p:cNvPicPr/>
          <p:nvPr/>
        </p:nvPicPr>
        <p:blipFill>
          <a:blip r:embed="rId4"/>
          <a:srcRect l="38703" t="32916" r="22595" b="8001"/>
          <a:stretch/>
        </p:blipFill>
        <p:spPr>
          <a:xfrm>
            <a:off x="3708360" y="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\\192.168.10.4\файлообменник\Фото\Фото для А.В. Малинникова\Красноярский край , Новосёловский район, яровой рапс, гусеница капустной моли, июль 2019г..jpg"/>
          <p:cNvPicPr/>
          <p:nvPr/>
        </p:nvPicPr>
        <p:blipFill>
          <a:blip r:embed="rId5"/>
          <a:srcRect l="30334" t="25687" r="13933" b="32042"/>
          <a:stretch/>
        </p:blipFill>
        <p:spPr>
          <a:xfrm>
            <a:off x="5508720" y="0"/>
            <a:ext cx="2609640" cy="14842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5724360" y="1268280"/>
            <a:ext cx="216072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усеница капустной мо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708000" y="1268280"/>
            <a:ext cx="180036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оп вредная черепа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https://cstor.nn2.ru/blog/data/blog/2022-01/3295014_1641483942.jpg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5794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68360" y="1125000"/>
            <a:ext cx="7991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Прямоугольник 5"/>
          <p:cNvGrpSpPr/>
          <p:nvPr/>
        </p:nvGrpSpPr>
        <p:grpSpPr>
          <a:xfrm>
            <a:off x="4486320" y="4565520"/>
            <a:ext cx="4743360" cy="2401920"/>
            <a:chOff x="4486320" y="4565520"/>
            <a:chExt cx="4743360" cy="2401920"/>
          </a:xfrm>
        </p:grpSpPr>
        <p:pic>
          <p:nvPicPr>
            <p:cNvPr id="7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486320" y="4565520"/>
              <a:ext cx="47433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716360" y="4797360"/>
              <a:ext cx="4283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Филиал ФГБУ «Россельхозцентр» по Красноярскому краю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г. Красноярск. Сурикова, 54 «В»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Тел. +7(391) 227-74-96,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E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mail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: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krstazr@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mail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.</a:t>
              </a: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ru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www.r</a:t>
              </a: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sc024.ru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3EFB-F6BC-426B-BB4B-EC90B136AABA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19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ртовые посевы яровых зерновых и зернобобовы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 в Красноярском крае 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-214200" y="285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324000" y="1268280"/>
          <a:ext cx="8640720" cy="5081760"/>
        </p:xfrm>
        <a:graphic>
          <a:graphicData uri="http://schemas.openxmlformats.org/drawingml/2006/table">
            <a:tbl>
              <a:tblPr/>
              <a:tblGrid>
                <a:gridCol w="2855880"/>
                <a:gridCol w="1244520"/>
                <a:gridCol w="1171440"/>
                <a:gridCol w="1098720"/>
                <a:gridCol w="1171440"/>
                <a:gridCol w="1098720"/>
              </a:tblGrid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3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еяно яровых зерновых, зернобобовых и крупяных всего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3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,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2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5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0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2" name="Номер слайда 5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7A39-7291-4EB5-B8F9-3B14BA57048A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250920" y="1160640"/>
            <a:ext cx="8208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32920" y="1646280"/>
            <a:ext cx="8209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39400" y="2079720"/>
            <a:ext cx="82090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07640" y="189000"/>
            <a:ext cx="7218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овые посевы масличных культур, в том числе рапса в Красноярском крае 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144360" y="1068480"/>
          <a:ext cx="8891640" cy="5491080"/>
        </p:xfrm>
        <a:graphic>
          <a:graphicData uri="http://schemas.openxmlformats.org/drawingml/2006/table">
            <a:tbl>
              <a:tblPr/>
              <a:tblGrid>
                <a:gridCol w="3384720"/>
                <a:gridCol w="1224000"/>
                <a:gridCol w="1079280"/>
                <a:gridCol w="1033560"/>
                <a:gridCol w="1165320"/>
                <a:gridCol w="1004760"/>
              </a:tblGrid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3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еяно масличных культур всего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1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 всего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br>
                        <a:rPr sz="20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</a:t>
                      </a:r>
                      <a:br>
                        <a:rPr sz="20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(19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(20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8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18CF-F3D3-419F-9BD0-E27F908340A8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178920" y="189000"/>
            <a:ext cx="7147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овые посадки картофеля в Красноярском кра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250920" y="1125360"/>
          <a:ext cx="8642160" cy="4524480"/>
        </p:xfrm>
        <a:graphic>
          <a:graphicData uri="http://schemas.openxmlformats.org/drawingml/2006/table">
            <a:tbl>
              <a:tblPr/>
              <a:tblGrid>
                <a:gridCol w="3024000"/>
                <a:gridCol w="1225800"/>
                <a:gridCol w="1066680"/>
                <a:gridCol w="1108080"/>
                <a:gridCol w="1065240"/>
                <a:gridCol w="1152360"/>
              </a:tblGrid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ажено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я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5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9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br>
                        <a:rPr sz="20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(50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1" name="TextBox 6"/>
          <p:cNvSpPr/>
          <p:nvPr/>
        </p:nvSpPr>
        <p:spPr>
          <a:xfrm>
            <a:off x="468360" y="5877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ктически весь картофель иностранной селекции производится в РФ, не более 2-3% завозится из-за рубеж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Номер слайда 7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6C76-C67B-4CF8-A2E0-75D34CDAD82E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40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а высева кондиционных семян яровых зерновых и зернобобовых культур в Красноярском крае за 2017-2021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Диаграмма 5" descr=""/>
          <p:cNvPicPr/>
          <p:nvPr/>
        </p:nvPicPr>
        <p:blipFill>
          <a:blip r:embed="rId1"/>
          <a:stretch/>
        </p:blipFill>
        <p:spPr>
          <a:xfrm>
            <a:off x="469800" y="1407960"/>
            <a:ext cx="8350200" cy="4973760"/>
          </a:xfrm>
          <a:prstGeom prst="rect">
            <a:avLst/>
          </a:prstGeom>
          <a:ln w="0">
            <a:noFill/>
          </a:ln>
        </p:spPr>
      </p:pic>
      <p:sp>
        <p:nvSpPr>
          <p:cNvPr id="665" name="Номер слайда 3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BC62-BFA2-4643-9E8B-77EE484B8369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108000" y="189000"/>
            <a:ext cx="70754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семян яровых зерновых и зернобобовых культур, предназначенных для посева в 2022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539640" y="1052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C67E-2A07-499E-9E46-F4151AB13B0A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ая соединительная линия 8"/>
          <p:cNvSpPr/>
          <p:nvPr/>
        </p:nvSpPr>
        <p:spPr>
          <a:xfrm flipV="1">
            <a:off x="5292720" y="5300640"/>
            <a:ext cx="57168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ая соединительная линия 9"/>
          <p:cNvSpPr/>
          <p:nvPr/>
        </p:nvSpPr>
        <p:spPr>
          <a:xfrm flipV="1">
            <a:off x="2411280" y="5373360"/>
            <a:ext cx="5716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ая соединительная линия 10"/>
          <p:cNvSpPr/>
          <p:nvPr/>
        </p:nvSpPr>
        <p:spPr>
          <a:xfrm flipV="1">
            <a:off x="3635280" y="5300640"/>
            <a:ext cx="57168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Диаграмма 11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70880" cy="4687920"/>
          </a:xfrm>
          <a:prstGeom prst="rect">
            <a:avLst/>
          </a:prstGeom>
          <a:ln w="0">
            <a:noFill/>
          </a:ln>
        </p:spPr>
      </p:pic>
      <p:sp>
        <p:nvSpPr>
          <p:cNvPr id="673" name="Прямая соединительная линия 12"/>
          <p:cNvSpPr/>
          <p:nvPr/>
        </p:nvSpPr>
        <p:spPr>
          <a:xfrm flipV="1">
            <a:off x="1763640" y="5373360"/>
            <a:ext cx="5716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13"/>
          <p:cNvSpPr/>
          <p:nvPr/>
        </p:nvSpPr>
        <p:spPr>
          <a:xfrm flipV="1">
            <a:off x="2771640" y="5373720"/>
            <a:ext cx="716040" cy="719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08000" y="1160640"/>
            <a:ext cx="42480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е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0" y="1197000"/>
            <a:ext cx="4464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ячм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189000"/>
            <a:ext cx="8028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аженность возбудителями заболеваний семян зерновых культур урожая 2011-2021 годов в Красноярском крае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Chart 1" descr=""/>
          <p:cNvPicPr/>
          <p:nvPr/>
        </p:nvPicPr>
        <p:blipFill>
          <a:blip r:embed="rId1"/>
          <a:stretch/>
        </p:blipFill>
        <p:spPr>
          <a:xfrm>
            <a:off x="0" y="1841400"/>
            <a:ext cx="4572000" cy="3894120"/>
          </a:xfrm>
          <a:prstGeom prst="rect">
            <a:avLst/>
          </a:prstGeom>
          <a:ln w="0">
            <a:noFill/>
          </a:ln>
        </p:spPr>
      </p:pic>
      <p:pic>
        <p:nvPicPr>
          <p:cNvPr id="679" name="Chart 1" descr=""/>
          <p:cNvPicPr/>
          <p:nvPr/>
        </p:nvPicPr>
        <p:blipFill>
          <a:blip r:embed="rId2"/>
          <a:stretch/>
        </p:blipFill>
        <p:spPr>
          <a:xfrm>
            <a:off x="4638600" y="1841400"/>
            <a:ext cx="4505400" cy="3894120"/>
          </a:xfrm>
          <a:prstGeom prst="rect">
            <a:avLst/>
          </a:prstGeom>
          <a:ln w="0">
            <a:noFill/>
          </a:ln>
        </p:spPr>
      </p:pic>
      <p:sp>
        <p:nvSpPr>
          <p:cNvPr id="680" name="Номер слайда 7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788B-92A5-40A7-AA82-0B75AA1F0167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79280" y="189000"/>
            <a:ext cx="7632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аженность возбудителями корневых гнилей семян зерновых культур урожая 2021 года в Красноя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Диаграмма 5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113440"/>
          </a:xfrm>
          <a:prstGeom prst="rect">
            <a:avLst/>
          </a:prstGeom>
          <a:ln w="0">
            <a:noFill/>
          </a:ln>
        </p:spPr>
      </p:pic>
      <p:sp>
        <p:nvSpPr>
          <p:cNvPr id="683" name="Номер слайда 3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CFEB-0DDE-469F-83B1-3A6D6E06B806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7640" y="188640"/>
            <a:ext cx="7056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предпосевной обработки семян сельскохозяйственных культур в Красноя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547640" y="1052640"/>
            <a:ext cx="5400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1-2021 годах, тыс. тон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700360" y="4723920"/>
            <a:ext cx="34560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21 году в разрезе культур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403280" y="5084640"/>
          <a:ext cx="6121440" cy="1729080"/>
        </p:xfrm>
        <a:graphic>
          <a:graphicData uri="http://schemas.openxmlformats.org/drawingml/2006/table">
            <a:tbl>
              <a:tblPr/>
              <a:tblGrid>
                <a:gridCol w="3060720"/>
                <a:gridCol w="3060720"/>
              </a:tblGrid>
              <a:tr h="3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ультура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 к высеянным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ровая пшениц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чмень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е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рнобобовы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п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88" name="Диаграмма 8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83600" cy="3462480"/>
          </a:xfrm>
          <a:prstGeom prst="rect">
            <a:avLst/>
          </a:prstGeom>
          <a:ln w="0">
            <a:noFill/>
          </a:ln>
        </p:spPr>
      </p:pic>
      <p:sp>
        <p:nvSpPr>
          <p:cNvPr id="689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42C6-11C1-476E-9273-6B267E7B95EF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52:55Z</dcterms:created>
  <dc:creator>Polina</dc:creator>
  <dc:description/>
  <dc:language>en-US</dc:language>
  <cp:lastModifiedBy>Оксана Н. Вебер</cp:lastModifiedBy>
  <dcterms:modified xsi:type="dcterms:W3CDTF">2022-04-12T02:59:40Z</dcterms:modified>
  <cp:revision>1627</cp:revision>
  <dc:subject/>
  <dc:title>Слайд 1</dc:title>
</cp:coreProperties>
</file>